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F76-63F5-49D2-96ED-B2E4F1C4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5B1-43E2-4B05-9CAF-2BFCA96E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2092B-19BC-43B8-B064-57DF2356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65E83-0C67-412C-8726-0D6395B2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2413E-0DAC-43BF-930F-C3260CBA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0290E-DD2E-4559-8254-903A6AD4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39057-86C0-427C-9990-2813F573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A5CDB-06C4-4238-A9F4-4BB2DA7A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25F87-48C9-45FE-89D5-7E7275E8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1E88D-25E0-494A-8BEA-5B90A36D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03365-ADCE-40D9-9789-50561205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3137A-10D6-4A4C-AE4D-4B9E808F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9EE-7256-493F-AD5B-E2BCB54C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E5408-F542-4DAD-BC2B-48B5A543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56126-A380-46EB-A835-B23A56D9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6DE67-EFA2-4138-8580-CA7B9092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1DE06-FC7C-418C-A559-FC549288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986CA-5284-4005-8189-8F985330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6D773-9B00-49AF-BDFB-89D7AAB5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6C8B0-F2F4-4C3E-B384-63E9E894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E712A-57C7-4359-BF52-83D15F3B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20DF0-F845-482E-B719-D0033E73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517DC-4736-447B-83FB-0F23F0B2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2A6-1B03-4241-BDE3-B0CC993C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ABBB8-2EEE-4393-AEC0-A2DD2DD7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E0D50-2053-4880-A010-B5337579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F76C8-0BB2-4A93-A37C-17D5FDE1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18443-E796-4605-B0B9-DF126E82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28D4A-E3D1-4B7F-A3F2-F3AE8463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DE8D3-04FB-49F6-BA59-2E9D81B8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FD898-86C7-4506-B416-EAC04F6F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3E146-2B24-4091-82CB-6EC70153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2C77E-4411-4FD9-B231-D62C4100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16908-3C86-49EF-8F73-FF88DC77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D06C-698E-4F4C-AF87-04F0E049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35926-DC6B-486D-A94F-CDB5474D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BAF02-3E81-4619-87B2-BBFEEDDC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0C7B5-8F3C-4B35-873E-8EDF95AE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7C872-BD2C-41D2-9380-9FF9DDAD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A0BA1-B906-49A2-894D-2D4FBB09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31625-56B6-4D2B-B7E7-FDA93084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135FE-A51A-4EB1-8106-578F31B1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C1C60-35EE-4BD9-B753-14D657C9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F1451-CCFD-413E-8D1A-58435C7B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05B5A-046F-44C9-A1FD-FC20F597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6555-B709-4E61-9541-29E4856B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A7888-BB09-41A0-AE3E-27C67E15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DA956-9395-4E92-80BF-D7FD3CA7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4BC41-ECD4-41D3-BD95-3DF99C20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4F7FD-3A07-49B6-B175-885FF8DE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93C3F-6E8A-446C-9F54-B801A11B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88AD-C12B-4AA8-83AB-2C0676D0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85C6-2D4D-4586-8FEB-52D6BF9D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7DCA-DC99-474F-A3C2-2E2194FB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8A83-842B-4D6A-AC64-0DAEDEDD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1B0A-E203-4976-929D-CC833DDF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19C-E0C9-4099-A86A-FE4975AC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E2C5-8F31-45AF-9AD7-64D5BF37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47B5-5947-44FA-BADD-B1397D1F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4D17-86E3-4CCE-A384-03A2D437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2E76-EED3-421D-9D88-EB408510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6B17-AF3B-4184-B486-E96D4190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DC47-A2F0-47B7-81B2-928FA053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13F1A-B732-431D-AD6B-2D5105E4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0EAE0-CF05-474C-A7CC-840D4AD1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DF6E-1525-4AFD-8571-A9C54042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8FE9-D0AB-4CD3-AE08-A2926AF1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050-F481-46E6-9108-D7D1E1DE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E83BC-1800-4709-BB83-4C6FACFB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09009-C78B-45D2-9072-4A88C67E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B0F8E-D179-4882-B249-C4566A2E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21AF8-6F41-493C-AFA8-20AF1CB8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60A9-66FC-4BF9-99FF-66BF2CCB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CC37D-5502-42DF-988E-85610F6F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E72ED-5734-4D02-9F42-C4120A5D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1E25A-5EFE-49B3-9713-00850007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03449-D053-4801-8017-E4299FDC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68822-A2AC-4642-A54A-E9AA25B3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DCA-E766-46B5-A475-49B9BF08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4CA9A-9DA1-41A7-8EBF-AB9B44AD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E41C-FD03-4E20-9B5F-124F9913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28FF6-0C8B-470E-91B5-AE4026D3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01C3C-9A65-4F36-9AED-5D8C5E63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34541-B666-44B8-A92C-4A323E28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2EEB4-FC3D-4F8F-9204-7115715F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B53D1-819E-4710-91F0-885B16FF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97F74-1EC5-4DC8-A8F6-F6C62545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B5869-E4C5-48DF-9F84-DA6BFF34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E521E-996B-4105-A32F-BCC4130D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DDC-086A-4BEF-ADF6-08E645E7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E3C00-D7F5-4962-98FD-768468B4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33CE6-4D90-4123-A4F0-3EAF8632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FEB23-B972-4EA8-BD0E-C5230CBC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4C5FC-FE9F-4361-A9E9-91D78FF5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F1170-268B-481F-9572-902AC62F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126D0-4132-4689-881C-928240A8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6B1A7-303F-4F38-99BB-74D0980C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33582-80F6-4314-A845-A3460AC5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A4F97-F823-40DC-9222-A374DD2B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9D008-6EB5-44DD-BE4D-D526B52C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B03-CDD2-4514-A580-D9580760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F08A2-B128-482F-A0DC-4BC1562F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8E3F1-E5D9-410A-8CBE-D5C4B77B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0A0D0-83E9-49C0-B3E4-1E213DCD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5C4B4-589C-4849-B7AF-C2F73641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B2B06-5FF6-4425-B96C-CB0CE4C2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88132-E6D2-4290-A35B-1A2BD9F9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E36DD-6EA7-4BC9-92C5-46202311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5C43B-FE80-42FE-812F-E8CC3611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D6D77-611F-46C5-A162-3CCB64B1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9B231-84A0-498C-A17E-4B3CA6B5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B9A-87CD-42A9-8789-0B033A9E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9C6F6-8A2F-4FAC-B5EE-28315EA2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940E1-D11B-4799-8556-7AD638BA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2E4D0-AC31-42DA-B204-DAE902E0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6C89E-1B86-49A0-8B55-7FDEADA4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A0F00-9CF7-46E2-B105-090B1FE3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CEADF-FD04-4302-8231-A7DC3214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D0DF2-808D-48D8-A700-38876B91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3F405-381E-4333-BC34-9050545A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23B6C-EF85-419E-ABE7-17A48EA0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BFCB2-9A18-42AC-8669-02276DEE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2F9-B4C9-4155-A50E-570A2CE2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D266F-5B5C-42DC-BF6B-8F11D754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09FB9-AD68-44CC-8785-A62CECC1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6A96F-AB41-4CC5-AD72-E9A93F0B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96071-0310-45B8-B99D-36B42383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4BD38-4648-4B02-B51E-B5C6FD22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5105E-877E-452B-A951-07C4ECA2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C6229-E459-4731-96B8-216FBBAE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0708E-D5A4-4E4A-9725-5A0C1CFF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517B2-407E-40AE-9A8B-2E93A614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C1D93-1055-4EDA-8DA6-7B286EFD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45FD-A23C-4481-BC7A-7184212E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20991-365E-43DC-946A-02068D28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CCE84-D4A2-473A-91DA-538D318B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6C86D-D61D-451F-BFEC-0BD940B6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DEDF2-CEC0-414A-AB4B-4CEB5B40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4E5BA-3AD2-4872-B064-741312B7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7F7E2-1D00-4FC3-AC57-CA5F99A6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1DCB8-CCC7-4319-8F1E-63667A9A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F3EBE-4B86-442D-AF10-BC185A01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41525-333D-41A8-9CED-362BD2FA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3809B-F0C8-46A3-8BBC-AFB8EC91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6EAD-38CE-4878-BD25-03EDF6CC95C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4440-1FBB-4B4C-BB4D-CC1276A71F4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8E71-6594-430C-928D-2684CA8C3C9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553B-F5B1-46B1-9760-7A706D34ED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1A89-0B6E-4783-B858-E9EB759BE21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DF00-7EC7-4B9F-8905-179DEED5F2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9161-6DF4-41FE-AF3C-BEF33C8EE99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596B-2F9B-4677-9C35-FE2D4E1137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FDB5-A17B-45B1-AC14-4F2DE37E56D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13AF-28AF-4A39-BC29-E06DE116DF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D78C-843D-4178-84C6-9AAB38B459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6916-5620-44CA-A08C-DC4CA61FEC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99 Božie Slovo skúmaj den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e Slovo skúmaj den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radosťou ho otvár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os o jeho pochope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y Pána prijím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úmaj Písmo, Pán ti ra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e Slovo, Knihu kní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ne pravdy srdcom cel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znávaj, ži podľa n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uj, váž si Slovo svät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vorí v ňom Pán Boh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ťa viesť na tomto sve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zkou cestou k nebe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úmaj Písmo, Pán ti ra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e Slovo, Knihu kní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ne pravdy srdcom cel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znávaj, ži podľa n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ím slovom sýť sa stál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ch, čo blúdia, k nemu ve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ti v láske neskonal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u tvár dá večne zr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úmaj Písmo, Pán ti ra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e Slovo, Knihu kní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ne pravdy srdcom cel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znávaj, ži podľa nich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30T18:08:30Z</dcterms:modified>
  <cp:revision>20</cp:revision>
  <dc:subject/>
  <dc:title>Je veľký náš Pán, on slávy je Kráľ Nech do všetkých strán  spev vrúcnych znie chvál.</dc:title>
</cp:coreProperties>
</file>